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031-F3C3-4130-816F-157B103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74B-1616-4525-A772-03587802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720-C579-4CEC-B730-4A21C9CC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32D-C584-4B65-AF1A-EC8E655F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7F8-09C5-4A1F-8675-8ECCDAED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F95-0739-43D4-B947-8EEBCA39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384-EB39-4481-BD06-1F6202A3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62A-236E-44F9-819E-DD204193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CC4-2793-4670-ACD9-A00D8C3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1C4-418F-4CEC-8DC8-72F9201C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A7D-D8E8-45C0-87B7-B8ECD160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C93-3E3C-42EB-899D-611EB10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ECFEA0-2EA3-46EB-87DE-467A64E7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l_fi" descr=""/>
          <p:cNvPicPr/>
          <p:nvPr/>
        </p:nvPicPr>
        <p:blipFill>
          <a:blip r:embed="rId1"/>
          <a:stretch/>
        </p:blipFill>
        <p:spPr>
          <a:xfrm>
            <a:off x="342576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3376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7524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5000"/>
              </a:lnSpc>
              <a:spcBef>
                <a:spcPts val="134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5400" spc="-1" strike="noStrike">
                <a:solidFill>
                  <a:srgbClr val="fff6df"/>
                </a:solidFill>
                <a:latin typeface="Bradley Hand ITC"/>
                <a:ea typeface="Arial Unicode MS"/>
              </a:rPr>
              <a:t>ORDINAMENTI SECONDO CICL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5400" spc="-1" strike="noStrike">
                <a:solidFill>
                  <a:srgbClr val="fff6df"/>
                </a:solidFill>
                <a:latin typeface="Bradley Hand ITC"/>
                <a:ea typeface="Arial Unicode MS"/>
              </a:rPr>
              <a:t>E POST SECONDARIA</a:t>
            </a:r>
            <a:r>
              <a:rPr b="1" lang="en-US" sz="4000" spc="-1" strike="noStrike">
                <a:solidFill>
                  <a:srgbClr val="333399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Bradley Hand ITC"/>
                <a:ea typeface="Arial Unicode MS"/>
              </a:rPr>
              <a:t>Mariella spinosi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6516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3200" spc="-1" strike="noStrike">
                <a:solidFill>
                  <a:srgbClr val="fff6df"/>
                </a:solidFill>
                <a:latin typeface="Book Antiqua"/>
              </a:rPr>
              <a:t>Rimini 5, 6, 7 marz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4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96520" y="152280"/>
            <a:ext cx="7037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a8310c"/>
                </a:solidFill>
                <a:latin typeface="Arial Unicode MS"/>
              </a:rPr>
              <a:t>Legge 28 marzo 2003, n. 53</a:t>
            </a:r>
            <a:r>
              <a:rPr b="0" lang="en-US" sz="3200" spc="-1" strike="noStrike">
                <a:solidFill>
                  <a:srgbClr val="a831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61722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icolo 2:</a:t>
            </a:r>
            <a:r>
              <a:rPr b="1" lang="en-US" sz="2400" spc="-1" strike="noStrike">
                <a:solidFill>
                  <a:srgbClr val="a8310c"/>
                </a:solidFill>
                <a:latin typeface="Arial"/>
              </a:rPr>
              <a:t> Sistema educativo d’istruzione e di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31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a8310c"/>
                </a:solidFill>
                <a:latin typeface="Arial"/>
              </a:rPr>
              <a:t>Apprendimento per tutto l’arco della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31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a8310c"/>
                </a:solidFill>
                <a:latin typeface="Arial"/>
              </a:rPr>
              <a:t>Diritto allo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31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a8310c"/>
                </a:solidFill>
                <a:latin typeface="Arial"/>
              </a:rPr>
              <a:t>Articolazione del sistema educativo d’istruzione e di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31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a8310c"/>
                </a:solidFill>
                <a:latin typeface="Arial"/>
              </a:rPr>
              <a:t>Piani di studio personalizz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8310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a8310c"/>
                </a:solidFill>
                <a:latin typeface="Arial"/>
              </a:rPr>
              <a:t>Inoltre negli articoli success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31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a8310c"/>
                </a:solidFill>
                <a:latin typeface="Arial"/>
              </a:rPr>
              <a:t>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31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a8310c"/>
                </a:solidFill>
                <a:latin typeface="Arial"/>
              </a:rPr>
              <a:t>Alternanza scuola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310c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a8310c"/>
                </a:solidFill>
                <a:latin typeface="Arial"/>
              </a:rPr>
              <a:t>Formazione degli in segn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224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97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l_fi" descr=""/>
          <p:cNvPicPr/>
          <p:nvPr/>
        </p:nvPicPr>
        <p:blipFill>
          <a:blip r:embed="rId2"/>
          <a:stretch/>
        </p:blipFill>
        <p:spPr>
          <a:xfrm>
            <a:off x="6419880" y="1905120"/>
            <a:ext cx="272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4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327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209680"/>
            <a:ext cx="601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) il secondo ciclo è costituito dal sistema dei </a:t>
            </a:r>
            <a:r>
              <a:rPr b="1" lang="it-IT" sz="24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licei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 dal sistema </a:t>
            </a:r>
            <a:r>
              <a:rPr b="0" lang="it-IT" sz="24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dell’</a:t>
            </a:r>
            <a:r>
              <a:rPr b="1" lang="it-IT" sz="24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istruzione e </a:t>
            </a:r>
            <a:r>
              <a:rPr b="0" lang="it-IT" sz="24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della</a:t>
            </a:r>
            <a:r>
              <a:rPr b="1" lang="it-IT" sz="2400" spc="-1" strike="noStrike">
                <a:solidFill>
                  <a:srgbClr val="000099"/>
                </a:solidFill>
                <a:latin typeface="Arial Unicode MS"/>
                <a:ea typeface="Times New Roman"/>
              </a:rPr>
              <a:t> formazione professionale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al compimento del quindicesimo anno di età i diplomi e le qualifiche si possono conseguire in alternanza scuola-lavoro o attraverso l’apprendista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2916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a8310c"/>
                </a:solidFill>
                <a:latin typeface="Arial Unicode MS"/>
              </a:rPr>
              <a:t>Legge 28 marzo 2003, n. 53</a:t>
            </a:r>
            <a:r>
              <a:rPr b="0" lang="en-US" sz="3200" spc="-1" strike="noStrike">
                <a:solidFill>
                  <a:srgbClr val="a831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838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2: Sistema educativo di istruzi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di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77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l_fi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64600">
            <a:off x="8078400" y="3581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e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8560" y="3581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4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486400" y="0"/>
            <a:ext cx="35496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37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a8310c"/>
                </a:solidFill>
                <a:latin typeface="Arial Unicode MS"/>
              </a:rPr>
              <a:t>Legge 28 marzo 2003, n. 53</a:t>
            </a:r>
            <a:r>
              <a:rPr b="0" lang="en-US" sz="3200" spc="-1" strike="noStrike">
                <a:solidFill>
                  <a:srgbClr val="a8310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327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838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2: Sistema educativo di istruzio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di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) il sistema dei licei comprende i lic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959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licei artistico, economico e tecnologico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 articolano in indirizzi per corrispondere ai diversi fabbisogni formativi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224080"/>
            <a:ext cx="4572000" cy="36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rtis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d82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82900"/>
                </a:solidFill>
                <a:latin typeface="Arial Unicode MS"/>
                <a:ea typeface="Times New Roman"/>
              </a:rPr>
              <a:t>economico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inguis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usicale e coreu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cienti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d829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82900"/>
                </a:solidFill>
                <a:latin typeface="Arial Unicode MS"/>
                <a:ea typeface="Times New Roman"/>
              </a:rPr>
              <a:t>tecnologico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1f1f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gradFill rotWithShape="0">
            <a:gsLst>
              <a:gs pos="0">
                <a:srgbClr val="f5f5f5"/>
              </a:gs>
              <a:gs pos="50000">
                <a:srgbClr val="ffffff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2249640"/>
            <a:ext cx="507672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436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e generali e livelli essenziali delle prestazioni relativi al secondo ciclo del sistema educativo di istruzione e formazione norma dell'articolo 2 della legge 28 marzo 2003, n. 5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5267160" y="0"/>
            <a:ext cx="387684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224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676520" y="759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 Unicode MS"/>
              </a:rPr>
              <a:t>D.Lgs 15 ottobre 2005, n. 226</a:t>
            </a:r>
            <a:br>
              <a:rPr sz="3200"/>
            </a:br>
            <a:r>
              <a:rPr b="1" i="1" lang="it-IT" sz="3200" spc="-1" strike="noStrike">
                <a:solidFill>
                  <a:srgbClr val="800000"/>
                </a:solidFill>
                <a:latin typeface="Arial Unicode MS"/>
              </a:rPr>
              <a:t>Definizione delle norme gene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fe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16680" y="3193920"/>
            <a:ext cx="4027320" cy="3664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-15264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 Unicode MS"/>
              </a:rPr>
              <a:t>D.Lgs 15 ottobre 2005, n. 226:</a:t>
            </a:r>
            <a:r>
              <a:rPr b="1" lang="it-IT" sz="2800" spc="-1" strike="noStrike">
                <a:solidFill>
                  <a:srgbClr val="c40062"/>
                </a:solidFill>
                <a:latin typeface="Arial Unicode MS"/>
              </a:rPr>
              <a:t> Articolat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3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Attività educative e didatt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4, 5, 6, 7, 8, 9, 10, 11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Lic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12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Organizzazione educativa e didat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13, 14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Valutazione e scrutini, Esami di 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4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15,16, 17, 18, 19, 20,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Livelli essenziali di prestazioni, dell’offerta formativa, orario, percorsi, requisiti docenti, certificazione delle competenze, strutture e 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22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Valut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23, 24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Strumento musicale, cultura music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25, 26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Inglese, Sci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27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Passaggio al nuovo ord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28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Attivazione diritto-dovere all’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29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Regioni a statuto spe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30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Norme finanzi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31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Norme finali ed abrog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95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0200" y="484200"/>
            <a:ext cx="754380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1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Secondo ciclo del sistema educativo di istruzione e form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0062"/>
                </a:solidFill>
                <a:latin typeface="Arial"/>
              </a:rPr>
              <a:t>Articolo 2: </a:t>
            </a:r>
            <a:r>
              <a:rPr b="1" i="1" lang="en-US" sz="1800" spc="-1" strike="noStrike">
                <a:solidFill>
                  <a:srgbClr val="035f7f"/>
                </a:solidFill>
                <a:latin typeface="Arial"/>
              </a:rPr>
              <a:t>Finalità e dur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402920" y="191628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200" spc="-1" strike="noStrike">
                <a:solidFill>
                  <a:srgbClr val="0026a0"/>
                </a:solidFill>
                <a:latin typeface="Times New Roman"/>
                <a:ea typeface="바탕"/>
              </a:rPr>
              <a:t>Legge 2 aprile 2007, n.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it-IT" sz="3200" spc="-1" strike="noStrike">
                <a:solidFill>
                  <a:srgbClr val="0026a0"/>
                </a:solidFill>
                <a:latin typeface="Times New Roman"/>
                <a:ea typeface="바탕"/>
              </a:rPr>
              <a:t>(liberalizzazio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Conversione in legge, con modificazioni, del decreto-legge 31 gennaio 2007, n. 7, recante misure urgenti per la tutela dei consumatori, la promozione della concorrenza, lo sviluppo di attività economiche e la nascita di nuove impres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76240" y="0"/>
            <a:ext cx="59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a0"/>
                </a:solidFill>
                <a:latin typeface="Arial"/>
              </a:rPr>
              <a:t>Istruzione superiore e autonomia scola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l_fi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402920" y="2637000"/>
            <a:ext cx="6985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200" spc="-1" strike="noStrike">
                <a:solidFill>
                  <a:srgbClr val="0026a0"/>
                </a:solidFill>
                <a:latin typeface="Times New Roman"/>
                <a:ea typeface="바탕"/>
              </a:rPr>
              <a:t>Legge 2 aprile 2007, n. 40, art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sposizioni urgenti in materia di istruzione tecnico-professionale e di valorizzazione dell'autonomia scolast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a0"/>
                </a:solidFill>
                <a:latin typeface="Arial"/>
              </a:rPr>
              <a:t>Istruzione superiore e autonomia scola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l_fi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26a0"/>
                </a:solidFill>
                <a:latin typeface="Arial"/>
                <a:ea typeface="바탕"/>
              </a:rPr>
              <a:t>Legge 2 aprile 2007, n. 40, art. 13, comm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Fanno parte del sistema dell'istruzione secondaria superiore i licei, gli istituti tecnici e gli istituti professionali… tutti finalizzati al conseguimento di un diploma di istruzione secondaria superi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(sono soppresse le parole </a:t>
            </a:r>
            <a:r>
              <a:rPr b="1" lang="it-IT" sz="2400" spc="-1" strike="noStrike">
                <a:solidFill>
                  <a:srgbClr val="d82900"/>
                </a:solidFill>
                <a:latin typeface="Arial"/>
                <a:ea typeface="宋体"/>
              </a:rPr>
              <a:t>economic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e </a:t>
            </a:r>
            <a:r>
              <a:rPr b="1" lang="it-IT" sz="2400" spc="-1" strike="noStrike">
                <a:solidFill>
                  <a:srgbClr val="d82900"/>
                </a:solidFill>
                <a:latin typeface="Arial"/>
                <a:ea typeface="宋体"/>
              </a:rPr>
              <a:t>tecnologic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a0"/>
                </a:solidFill>
                <a:latin typeface="Arial"/>
              </a:rPr>
              <a:t>Istruzione superiore e autonomia scola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0036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43600" y="2514600"/>
            <a:ext cx="2852640" cy="3505320"/>
            <a:chOff x="5943600" y="2514600"/>
            <a:chExt cx="2852640" cy="3505320"/>
          </a:xfrm>
        </p:grpSpPr>
        <p:sp>
          <p:nvSpPr>
            <p:cNvPr id="149" name=""/>
            <p:cNvSpPr/>
            <p:nvPr/>
          </p:nvSpPr>
          <p:spPr>
            <a:xfrm>
              <a:off x="8078760" y="2514600"/>
              <a:ext cx="7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d82900"/>
                  </a:solidFill>
                  <a:latin typeface="Arial"/>
                </a:rPr>
                <a:t>I</a:t>
              </a:r>
              <a:r>
                <a:rPr b="1" i="1" lang="it-IT" sz="2000" spc="-1" strike="noStrike">
                  <a:solidFill>
                    <a:srgbClr val="d82900"/>
                  </a:solidFill>
                  <a:latin typeface="Arial"/>
                </a:rPr>
                <a:t>e</a:t>
              </a:r>
              <a:r>
                <a:rPr b="1" lang="it-IT" sz="2000" spc="-1" strike="noStrike">
                  <a:solidFill>
                    <a:srgbClr val="d82900"/>
                  </a:solidFill>
                  <a:latin typeface="Arial"/>
                </a:rPr>
                <a:t>F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674600">
              <a:off x="6553080" y="3124440"/>
              <a:ext cx="533520" cy="1828800"/>
            </a:xfrm>
            <a:prstGeom prst="upArrow">
              <a:avLst>
                <a:gd name="adj1" fmla="val 50000"/>
                <a:gd name="adj2" fmla="val 85695"/>
              </a:avLst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1476400">
              <a:off x="7086600" y="2971440"/>
              <a:ext cx="533520" cy="1828800"/>
            </a:xfrm>
            <a:prstGeom prst="upArrow">
              <a:avLst>
                <a:gd name="adj1" fmla="val 50000"/>
                <a:gd name="adj2" fmla="val 85695"/>
              </a:avLst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63800">
              <a:off x="7467480" y="3124440"/>
              <a:ext cx="533520" cy="1828800"/>
            </a:xfrm>
            <a:prstGeom prst="upArrow">
              <a:avLst>
                <a:gd name="adj1" fmla="val 50000"/>
                <a:gd name="adj2" fmla="val 85695"/>
              </a:avLst>
            </a:prstGeom>
            <a:solidFill>
              <a:srgbClr val="335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7171400">
              <a:off x="6919200" y="3825720"/>
              <a:ext cx="161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fession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053600">
              <a:off x="6862680" y="33490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cni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4272200">
              <a:off x="6233760" y="35208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c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4724640"/>
              <a:ext cx="457200" cy="914400"/>
            </a:xfrm>
            <a:prstGeom prst="rect">
              <a:avLst/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5639040"/>
              <a:ext cx="2819520" cy="380880"/>
            </a:xfrm>
            <a:prstGeom prst="rect">
              <a:avLst/>
            </a:prstGeom>
            <a:solidFill>
              <a:srgbClr val="335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ondo ciclo d’istru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d2e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693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26a0"/>
                </a:solidFill>
                <a:latin typeface="Arial Unicode MS"/>
                <a:ea typeface="바탕"/>
              </a:rPr>
              <a:t>Legge 2 aprile 2007, n. 40, art. 13, comma 1-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c80085"/>
                </a:solidFill>
                <a:latin typeface="Arial Unicode MS"/>
                <a:ea typeface="宋体"/>
              </a:rPr>
              <a:t>Gli istituti tecnici e gli istituti professionali sono riordinati e potenziati come 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宋体"/>
              </a:rPr>
              <a:t>istituti tecnici</a:t>
            </a:r>
            <a:r>
              <a:rPr b="1" lang="it-IT" sz="2400" spc="-1" strike="noStrike">
                <a:solidFill>
                  <a:srgbClr val="c80085"/>
                </a:solidFill>
                <a:latin typeface="Arial Unicode MS"/>
                <a:ea typeface="宋体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宋体"/>
              </a:rPr>
              <a:t>professionali,</a:t>
            </a:r>
            <a:r>
              <a:rPr b="1" lang="it-IT" sz="2400" spc="-1" strike="noStrike">
                <a:solidFill>
                  <a:srgbClr val="c80085"/>
                </a:solidFill>
                <a:latin typeface="Arial Unicode MS"/>
                <a:ea typeface="宋体"/>
              </a:rPr>
              <a:t> appartenenti al sistema dell'istruzione secondaria superiore, finalizzati istituzionalmente al conseguimento del diplo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 Unicode MS"/>
              </a:rPr>
              <a:t>gli istituti di istruzione secondaria superiore (…) attivano ogni opportuno collegamento con il mondo del lavoro e dell'impresa, ivi compresi il volontariato e il privato sociale, con la formazione professionale, con l'università e la ricerca e con gli enti loc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a0"/>
                </a:solidFill>
                <a:latin typeface="Arial"/>
              </a:rPr>
              <a:t>Istruzione superiore e autonomia scola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1828800"/>
            <a:ext cx="0" cy="4191120"/>
          </a:xfrm>
          <a:prstGeom prst="line">
            <a:avLst/>
          </a:prstGeom>
          <a:ln w="12600">
            <a:solidFill>
              <a:srgbClr val="d82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91520" y="2819520"/>
            <a:ext cx="1576440" cy="1447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itorno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 passato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8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26a0"/>
                </a:solidFill>
                <a:latin typeface="Arial"/>
                <a:ea typeface="바탕"/>
              </a:rPr>
              <a:t>Legge 2 aprile 2007, n. 40, art. 13, comma 1-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 i successivi regolamenti sono previ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riduzione del numero degli attuali indirizz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e il loro ammodernamento nell'ambito di ampi settori tecnico-professiona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cansione tempora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ei percorsi e i relativi risultati di apprendi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previsione di un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onte ore annuale delle lezio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ostenibile per gli allievi nei limiti del monte ore complessivo annuale già previsto per i licei economico e tecnologico dal decreto legislativo 226/2005, e del monte ore complessivo annuale da definire ai sensi dell'articolo 1, comma 605, lettera f), della legge 27 dicembre 2006, n. 29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onseguent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riorganizzazione delle discipline di insegnament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l fine di potenziare l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ttività laboratoriali, di stage e di tiroci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'orientamento agli studi universitari e al sistema dell'istruzione 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formazione tecnica superior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a0"/>
                </a:solidFill>
                <a:latin typeface="Arial"/>
              </a:rPr>
              <a:t>Istruzione superiore e autonomia scola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5909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  <a:ea typeface="Arial Unicode MS"/>
              </a:rPr>
              <a:t>Stop alla frammentazione</a:t>
            </a:r>
            <a:r>
              <a:rPr b="1" lang="en-US" sz="4000" spc="-1" strike="noStrike">
                <a:solidFill>
                  <a:srgbClr val="333399"/>
                </a:solidFill>
                <a:latin typeface="Bradley Hand ITC"/>
                <a:ea typeface="Arial Unicode MS"/>
              </a:rPr>
              <a:t> Meno ore più approfondimen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Bradley Hand ITC"/>
                <a:ea typeface="Arial Unicode MS"/>
              </a:rPr>
              <a:t>Qualità e modernizz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4000" spc="-1" strike="noStrike">
                <a:solidFill>
                  <a:srgbClr val="7a5128"/>
                </a:solidFill>
                <a:latin typeface="Bradley Hand ITC"/>
                <a:ea typeface="Arial Unicode MS"/>
              </a:rPr>
              <a:t>Nel territorio aperti al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542880"/>
            <a:ext cx="61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parole chiave del cambiamen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51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l_fi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400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68280" y="2565000"/>
            <a:ext cx="68090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26a0"/>
                </a:solidFill>
                <a:latin typeface="Arial"/>
                <a:ea typeface="바탕"/>
              </a:rPr>
              <a:t>Legge 2 aprile 2007, n. 40,  art. 13, comma 1-qu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I regolamenti sono adottati  (…) a decorrere dall'anno scolastico e formativo 2009-201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a0"/>
                </a:solidFill>
                <a:latin typeface="Arial"/>
              </a:rPr>
              <a:t>Istruzione superiore e autonomia scola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724280"/>
            <a:ext cx="5943600" cy="0"/>
          </a:xfrm>
          <a:prstGeom prst="line">
            <a:avLst/>
          </a:prstGeom>
          <a:ln w="38160">
            <a:solidFill>
              <a:srgbClr val="d82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9561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2900"/>
                </a:solidFill>
                <a:latin typeface="Arial Unicode MS"/>
              </a:rPr>
              <a:t>In realtà l’anno di decorrenza è il 2010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206028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000" spc="-1" strike="noStrike">
                <a:solidFill>
                  <a:srgbClr val="0026a0"/>
                </a:solidFill>
                <a:latin typeface="Arial"/>
                <a:ea typeface="바탕"/>
              </a:rPr>
              <a:t>Legge 2 aprile 2007, n. 40,  art. 13, comma 1-quinqu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no adottate apposite linee guida, predisposte dal Ministro della pubblica istruzione e d'intesa (…) con la Conferenza unificata  (…) al fine di realizzar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organici raccord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tra i percorsi degli istituti tecnico-professionali e i percorsi di istruzione e formazione professionale finalizzati al conseguimento di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lifiche e diplom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professionali di competenza dell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region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compresi in u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pposito repertorio nazionale</a:t>
            </a:r>
            <a:r>
              <a:rPr b="1" lang="it-IT" sz="2400" spc="-1" strike="noStrike">
                <a:solidFill>
                  <a:srgbClr val="d829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0"/>
            <a:ext cx="75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a0"/>
                </a:solidFill>
                <a:latin typeface="Arial"/>
              </a:rPr>
              <a:t>Istruzione superiore e autonomia scola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294920" y="225576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200" spc="-1" strike="noStrike">
                <a:solidFill>
                  <a:srgbClr val="0026a0"/>
                </a:solidFill>
                <a:latin typeface="Times New Roman"/>
                <a:ea typeface="바탕"/>
              </a:rPr>
              <a:t>DPCM 25 gennaio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200" spc="-1" strike="noStrike">
                <a:solidFill>
                  <a:srgbClr val="0026a0"/>
                </a:solidFill>
                <a:latin typeface="Times New Roman"/>
                <a:ea typeface="바탕"/>
              </a:rPr>
              <a:t>Linee guida per la riorganizzazione del sistema d’istruzione e formazione tecnica superiore e la costituzione degl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Istituti tecnici super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0"/>
            <a:ext cx="378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a0"/>
                </a:solidFill>
                <a:latin typeface="Arial"/>
              </a:rPr>
              <a:t>Istruzione tecnica superiore [I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7180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l_fi" descr="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dc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iamenti in co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608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R 15 marzo 2010, n. 8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rdino degli Istituti profess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R 15 marzo 2010, n. 8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rdino degli Istituti tec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PR 15 marzo 2010, n. 8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rdino dei Lic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268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943600" y="2009880"/>
            <a:ext cx="3200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7515360" y="0"/>
            <a:ext cx="1628640" cy="1676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" y="2577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Unicode MS"/>
                <a:ea typeface="宋体"/>
              </a:rPr>
              <a:t>I nuovi tempi scolas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1295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bien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1295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bien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1295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o 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9051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382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o 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3505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o mus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572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o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9718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0384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o scient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51814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tituti tec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7913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tituti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9810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                35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43828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97180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50532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03848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457200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510552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571500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14479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14479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14479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251460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               31              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0481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               30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35812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               32              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411480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               30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46483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               35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525780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2                32              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57913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2                32              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0512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7515360" y="0"/>
            <a:ext cx="1628640" cy="1676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288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 Unicode MS"/>
                <a:ea typeface="宋体"/>
              </a:rPr>
              <a:t>Quote di autonomia e margini di flessibilit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5960" y="182880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1828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° bien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1828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° bien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182880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ltimo 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27432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27432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t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3657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ti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c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5257800"/>
            <a:ext cx="213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stit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35268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487692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662940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17524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17524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17524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27432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              30           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36576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                20           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590920"/>
            <a:ext cx="853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36576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ut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41148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les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41148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---               30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5181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aut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6386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fles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52578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0                20           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571500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5                35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f5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Gli IeFP: a che punto si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90720"/>
            <a:ext cx="41148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egge 28 marzo 2003, n. 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447920"/>
            <a:ext cx="91440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.Lgs 17 ottobre 2005, n. 2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Legge 2 aprile 2007, n.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vede la definizione delle linee guida di cui all’articolo 13, comma 1-quinqu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egge 6 agosto 2008, n. 133. Art. 64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definisce i currico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Accordo MIUR, MLPS, Regioni 29 aprile 2010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re per le qualifiche triennali e 21 figure per le qualifiche quadrien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DPR 15 marzo 2010, n. 87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iguarda il regolamento di riordino degli Ist prof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 Direttiva 28 luglio 2010, n. 65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Linee guida per gli Istituti profession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 Documento di lavoro riunione MIUR 27 maggio 2010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fferta sussidiaria degli I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. Decreto interministeriale 15 giugno 2010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cepisce l'Accordo del  29 aprile 2010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 Intesa del 16 dicembre 2010 e Linee guida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grata con la nota 640 del 24.2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0" y="0"/>
          <a:ext cx="2286000" cy="21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0"/>
                    <a:ext cx="2286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1f1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L’obbligo: a che punto si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433520"/>
            <a:ext cx="86868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indent="181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gge 20 gennaio 1999, n. 9  e </a:t>
            </a:r>
            <a:r>
              <a:rPr b="1" i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M 9 agosto 1999, n. 323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bbligo scolastico   a 15 an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11284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i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gge 17 maggio 1999, n. 144</a:t>
            </a:r>
            <a:r>
              <a:rPr b="1" i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Obbligo di frequenza di attività formative fino al compimento del 18</a:t>
            </a:r>
            <a:r>
              <a:rPr b="0" i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imo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no di età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gge 28 marzo 2003, n. 53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ncella la legge 9/1999. Concetto di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diritto all’istruzione e alla formazione)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D.Lgs 15 aprile 2005, n. 76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definisce il diritto dovere all’istruzione e 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azione alla luce del modifiche del titolo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7. D.Lgs 15 aprile 2005, n.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partire dal 15</a:t>
            </a:r>
            <a:r>
              <a:rPr b="0" i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imo</a:t>
            </a: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no di età, diplomi o qualifiche in alternanza scuola-lavo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Legge 27 dicembre 2006, n. 296 (finanziaria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istabilisce che l'istruzione impartita per almeno dieci anni è obbligatoria, che l'e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l'accesso al lavoro è elevata a sedici anni – saperi e competen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l_fi" descr=""/>
          <p:cNvPicPr/>
          <p:nvPr/>
        </p:nvPicPr>
        <p:blipFill>
          <a:blip r:embed="rId1"/>
          <a:stretch/>
        </p:blipFill>
        <p:spPr>
          <a:xfrm>
            <a:off x="7486560" y="0"/>
            <a:ext cx="1657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1f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L’obbligo: a che punto si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884240"/>
            <a:ext cx="91440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 DPR 22 agosto 2007, n. 1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dicazioni sulle modalità di assolvimento dell’obbligo d’istruzione, le linee gu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l’orientamento, il monitoraggio, la formazione, la valutazione e la certificazione)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 Legge 6 agosto 2008, n 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cisa che l'obbligo di istruzione si assolve anche nei percorsi di istruzion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mazione professionale – art. 69, comma 4/b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. 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M 27 gennaio 2010, n.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opone il primo formato ufficiale per la certificazione dei saperi e delle competenz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 Legge 1° dicembre 2010, n. 183 (collegato lavo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Stabilisce che l’anno di lavoro tra i 15 e i 16 anni è valido ai fini dell’ass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ll’obbligo scolasti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l_fi" descr=""/>
          <p:cNvPicPr/>
          <p:nvPr/>
        </p:nvPicPr>
        <p:blipFill>
          <a:blip r:embed="rId1"/>
          <a:stretch/>
        </p:blipFill>
        <p:spPr>
          <a:xfrm>
            <a:off x="7486560" y="0"/>
            <a:ext cx="1657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Post diploma: a che punto si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19320"/>
            <a:ext cx="91440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egge 17 maggio 1999, n.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iorganizzazione del sistema di istruzione e di formazione tecnica superiore – IFTS)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.I. 31 ottobre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ndividua le caratteristiche principali del sistema post secondario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Accordo Conferenza Stato Regione del 25 novembr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issa i nuovi indirizzi di programmazione: durata triennale dei piani di interv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gionale, rafforzamento del partenariato pubblico-privato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egge 27 dicembre 2006, n. 296 (finanziaria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l comma 631 prevede la riorganizzazione del sistema secondo linee guida adot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 successivo DPCM. Il comma 875 istituisce un apposito fond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Industria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Disegno di legge della nuova politica industriale varato dal governo il 22.9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 previsioni sono recepite dalla legge finanziaria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dividua le aree tecnologiche che potranno essere oggetto di costituzione degli I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343640" y="0"/>
          <a:ext cx="1800360" cy="165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43640" y="0"/>
                    <a:ext cx="18003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e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0600" y="2514600"/>
            <a:ext cx="4191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  <a:ea typeface="Arial Unicode MS"/>
              </a:rPr>
              <a:t>Cambiamento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  <a:ea typeface="Arial Unicode MS"/>
              </a:rPr>
              <a:t>Di che cos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  <a:ea typeface="Arial Unicode MS"/>
              </a:rPr>
              <a:t>rispetto a che co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542880"/>
            <a:ext cx="615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parole chiave del cambiamen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147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482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8836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 Unicode MS"/>
                <a:ea typeface="宋体"/>
              </a:rPr>
              <a:t>Post diploma: a che punto si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219320"/>
            <a:ext cx="91440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Legge 2 aprile 2007, n.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edispone che tutte le strutture che operano nell’ambito degli IFTS assumano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nominazione di ITS, Istituti tecnici superiori – articolo 13, comma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. DPCM 25 gennai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ontiene le linee guida per la riorganizzazione del sistema degli IFTS e pe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stituzione di ITS. Si tratta di un atto di indirizzo che indica gli obiettivi da persegui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 tipologie di intervento, le caratteristiche dei percorsi e gli standard organizzativi d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ut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. Legge 28 febbraio 2010, n.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roroga il finanziamento di 10 milioni di euro per il triennio 2007-2009 fino al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cembre 2010 – art. 7, comma 5-qu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343640" y="0"/>
          <a:ext cx="1800360" cy="165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43640" y="0"/>
                    <a:ext cx="18003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1609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Attività di accompagnam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宋体"/>
              </a:rPr>
              <a:t>25 giugno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4392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misure di supporto all’autonomia delle istituzioni scolastiche nel graduale e progressivo passaggio ai nuovi ordinamenti: esse costituiscono parte di un piano di attività, di durata pluriennale, articolato in fasi e programmi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15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533520"/>
            <a:ext cx="6516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Decisori pro tempore</a:t>
            </a:r>
            <a:r>
              <a:rPr b="1" lang="it-IT" sz="3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368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ggi generali e Indicazioni per 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602080" cy="204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2286000" cy="1933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514600" cy="193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147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"/>
          <p:cNvPicPr/>
          <p:nvPr/>
        </p:nvPicPr>
        <p:blipFill>
          <a:blip r:embed="rId4"/>
          <a:stretch/>
        </p:blipFill>
        <p:spPr>
          <a:xfrm>
            <a:off x="380880" y="1676520"/>
            <a:ext cx="2514600" cy="2133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1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5"/>
          <a:stretch/>
        </p:blipFill>
        <p:spPr>
          <a:xfrm>
            <a:off x="3429000" y="1676520"/>
            <a:ext cx="2286000" cy="2133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1016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l_fi" descr=""/>
          <p:cNvPicPr/>
          <p:nvPr/>
        </p:nvPicPr>
        <p:blipFill>
          <a:blip r:embed="rId6"/>
          <a:stretch/>
        </p:blipFill>
        <p:spPr>
          <a:xfrm>
            <a:off x="6172200" y="1676520"/>
            <a:ext cx="2514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38280" y="0"/>
            <a:ext cx="6516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3400" spc="-1" strike="noStrike">
                <a:solidFill>
                  <a:srgbClr val="333399"/>
                </a:solidFill>
                <a:latin typeface="Arial"/>
              </a:rPr>
              <a:t>La riforma gentilian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147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1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1016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905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’istruzione liceale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’istruzione te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e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0000"/>
                </a:solidFill>
                <a:latin typeface="Arial Unicode MS"/>
                <a:ea typeface="Arial Unicode MS"/>
              </a:rPr>
              <a:t>l’istruzione professionale</a:t>
            </a:r>
            <a:r>
              <a:rPr b="1" lang="en-US" sz="2400" spc="-1" strike="noStrike">
                <a:solidFill>
                  <a:srgbClr val="8e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2640" y="129528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 sistema scolastico superiore comprendeva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86760" y="34574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mal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962520"/>
            <a:ext cx="845820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stituto magistrale (la cenerentola dei lic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e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0000"/>
                </a:solidFill>
                <a:latin typeface="Arial Unicode MS"/>
                <a:ea typeface="Arial Unicode MS"/>
              </a:rPr>
              <a:t>Gli istituti d’arte (si avvicinavano ai professional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32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32"/>
                </a:solidFill>
                <a:latin typeface="Arial Unicode MS"/>
                <a:ea typeface="Arial Unicode MS"/>
              </a:rPr>
              <a:t>L’istruzione artistica (manteneva una propria autonom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e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e0000"/>
                </a:solidFill>
                <a:latin typeface="Arial Unicode MS"/>
                <a:ea typeface="Arial Unicode MS"/>
              </a:rPr>
              <a:t>La formazione professionale (dipendeva totalmente dalle Regioni)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38280" y="0"/>
            <a:ext cx="6516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3400" spc="-1" strike="noStrike">
                <a:solidFill>
                  <a:srgbClr val="7a5128"/>
                </a:solidFill>
                <a:latin typeface="Arial"/>
              </a:rPr>
              <a:t>La riforma gentiliana</a:t>
            </a:r>
            <a:r>
              <a:rPr b="1" lang="it-IT" sz="3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147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l_fi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1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1016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762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U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istema nato a due ga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71080" y="13716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questione dell’istruzione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590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legge 15 Giugno 1931, n. 899 aveva costituito l’Istituto tecnico riconoscendogli</a:t>
            </a:r>
            <a:r>
              <a:rPr b="1" lang="en-US" sz="2400" spc="-1" strike="noStrike">
                <a:solidFill>
                  <a:srgbClr val="8e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finalità e scopi di tipo “profession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1940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i corsi di avviamento profess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lle scuole professionali femmin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lle scuole tecniche (attuali Istituti profess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lle scuole di magistero professionale per le d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li istituti tec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440" y="3809880"/>
            <a:ext cx="61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sto tipo di istruzione veniva impart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86200"/>
            <a:ext cx="85345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 Unicode MS"/>
              </a:rPr>
              <a:t>Legge 10 febbraio 2000, n. 30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 Unicode MS"/>
              </a:rPr>
              <a:t>Una riforma interrott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147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14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l_fi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71016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l_fi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251460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43600" y="914400"/>
            <a:ext cx="3200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Arial Unicode MS"/>
              </a:rPr>
              <a:t>Berlingu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it-IT" sz="3400" spc="-1" strike="noStrike">
                <a:solidFill>
                  <a:srgbClr val="808080"/>
                </a:solidFill>
                <a:latin typeface="Arial Unicode MS"/>
              </a:rPr>
              <a:t>De Mau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f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2168640"/>
            <a:ext cx="9144000" cy="4689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5840" y="-360"/>
            <a:ext cx="76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684522"/>
                </a:solidFill>
                <a:latin typeface="Arial"/>
              </a:rPr>
              <a:t>Le indicazioni nazio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22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407960"/>
            <a:ext cx="34923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360360" indent="-360360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684522"/>
                </a:solidFill>
                <a:latin typeface="Arial"/>
              </a:rPr>
              <a:t>Legge 53/20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buClr>
                <a:srgbClr val="684522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en-US" sz="2000" spc="-1" strike="noStrike">
                <a:solidFill>
                  <a:srgbClr val="684522"/>
                </a:solidFill>
                <a:latin typeface="Arial"/>
                <a:ea typeface="Arial"/>
              </a:rPr>
              <a:t>Norme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98920" y="1407960"/>
            <a:ext cx="554508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360360" indent="-360360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it-IT" sz="3200" spc="-1" strike="noStrike">
                <a:solidFill>
                  <a:srgbClr val="684522"/>
                </a:solidFill>
                <a:latin typeface="Arial"/>
              </a:rPr>
              <a:t>D.Lgs 226/2005</a:t>
            </a:r>
            <a:r>
              <a:rPr b="1" lang="it-IT" sz="2000" spc="-1" strike="noStrike">
                <a:solidFill>
                  <a:srgbClr val="68452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buClr>
                <a:srgbClr val="684522"/>
              </a:buClr>
              <a:buFont typeface="Arial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it-IT" sz="2000" spc="-1" strike="noStrike">
                <a:solidFill>
                  <a:srgbClr val="684522"/>
                </a:solidFill>
                <a:latin typeface="Arial"/>
                <a:ea typeface="Arial"/>
              </a:rPr>
              <a:t>Definizione delle norme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5080" y="5733720"/>
            <a:ext cx="51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llegati A, B, C, C/1, C/2, C/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/4, C/5, C/6, C/7 e C/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4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330880" y="0"/>
            <a:ext cx="38131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27468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26a0"/>
                </a:solidFill>
                <a:latin typeface="Arial Unicode MS"/>
              </a:rPr>
              <a:t>Legge 28 marzo 2003, n. 5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c0787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6c0787"/>
                </a:solidFill>
                <a:latin typeface="Arial"/>
              </a:rPr>
              <a:t>Delega al Governo per la definizione dell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rme generali</a:t>
            </a:r>
            <a:r>
              <a:rPr b="1" lang="en-US" sz="2800" spc="-1" strike="noStrike">
                <a:solidFill>
                  <a:srgbClr val="6c0787"/>
                </a:solidFill>
                <a:latin typeface="Arial"/>
              </a:rPr>
              <a:t> sull’istruzione e de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elli essenziali</a:t>
            </a:r>
            <a:r>
              <a:rPr b="1" lang="en-US" sz="2800" spc="-1" strike="noStrike">
                <a:solidFill>
                  <a:srgbClr val="6c0787"/>
                </a:solidFill>
                <a:latin typeface="Arial"/>
              </a:rPr>
              <a:t> delle prestazioni in materia di istruzione e formazione profess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ticolo 2:</a:t>
            </a:r>
            <a:r>
              <a:rPr b="1" lang="en-US" sz="2800" spc="-1" strike="noStrike">
                <a:solidFill>
                  <a:srgbClr val="6c0787"/>
                </a:solidFill>
                <a:latin typeface="Arial"/>
              </a:rPr>
              <a:t> Sistema educativo d’istruzione e di 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6:21:41Z</dcterms:created>
  <dc:creator>Mariella</dc:creator>
  <dc:description/>
  <dc:language>en-US</dc:language>
  <cp:lastModifiedBy>acer</cp:lastModifiedBy>
  <dcterms:modified xsi:type="dcterms:W3CDTF">2011-03-08T22:44:14Z</dcterms:modified>
  <cp:revision>140</cp:revision>
  <dc:subject/>
  <dc:title>Diapositiva 1</dc:title>
</cp:coreProperties>
</file>