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dt" idx="2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 type="sldNum" idx="2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F19F-BCC4-4B90-A4A4-FF9BB1CF4D9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2B5D-CC7D-4693-8A30-E51052339D2D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egnaposto numero diapositiva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A9CB-DB57-43FE-ADA1-FBD63034D347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27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egnaposto numero diapositiva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5B49-32F7-4982-A8AB-D0A32615D747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D7A-4EB9-4CAA-85FC-9FDB0177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3043-12D1-48C5-8C04-887FF4A0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4609-BB31-4469-8CE5-74B88AC0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6698-0E9F-41A0-B2CB-7AAAE8B7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F739-7643-4F79-904A-1794CCAC8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14D9-08C9-46BB-8F65-720CE2363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BDB0-1BCD-4D3B-8D49-BEDF7849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00006-2739-4F4B-8B77-9A9FCA41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1E49-9716-471A-9139-08087421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3555-6C5C-4F6E-92A9-799AC0F9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4DB3A-7623-464A-AB18-268A6C22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DEF9-2A8E-4BF2-B29B-34350456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8997-A720-4E78-B367-46C4A9BE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333E-0F5E-40C7-AF02-1BEE6654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837C-12B4-44D9-BDA6-807B3F8E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EABF-56A8-453B-ADB4-608309F4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E86E-A390-47A3-8313-B87B01EA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A3CA5-C4B4-4255-BC49-EB0D8CCF4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FB3C3-92E5-40D2-A153-05301FF8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6DDCE-7DE7-4568-B6F6-FCDB2984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1B43E-7D5A-47C1-88D1-8829FFA4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B8837-1925-446D-A19E-8403DB7B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4A9-A611-49D4-BDC1-F763B928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1E88-F247-4880-BF59-D1F27525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52995-794F-42C4-9F89-05BBD8CE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AC174-1F1F-4503-B9D0-1E8E53E8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73AA9-7287-48DA-B312-F5CBE276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C23D6-F04F-4E05-9FB7-BCCF99DB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A2481-C024-41DC-8443-1A5B1B68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90A3E-FC17-4E79-8204-D647CF6D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88BC8-3E94-4855-8724-60565056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8E673-3EE7-46B6-BD14-6E5A3A3D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E03FE-44A8-4D10-840B-F542957E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A14-8CED-4FD8-AA1D-EEFDC7CA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7EE6F-1B56-4C66-9A50-A11DD2D8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A8B2A-0E01-4952-BC19-C83CBA07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E28E-EF31-4E48-930E-8AD8C09E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D557B-76B7-4A6A-8F20-B0762DA0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69917-9DB9-4906-BADA-E5D33C5F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73307-5090-4988-9796-A863F73D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2A1B1-4E03-488A-B7FE-50734354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CCE4-869F-4E44-8ED4-B65079F6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99457-C843-47A8-9153-6E5D2565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AAD8A-5EC3-4F15-B65D-8E2A5CE2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88F-27E3-42DB-91A1-B648749A3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6E859-FCCE-42FA-B623-E0A97B2E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3C14D-3362-4E0F-9912-DC3D0236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CAF0B-6211-42C7-A8E4-B00D82B1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83AD5-8EE3-4C48-9C2D-B47FEF08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210FB-21B8-4744-A078-A45AED14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73460-58C6-47D7-A359-A3FA1E5D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7A619-8516-4C14-8076-44DC01CD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E5762-73B2-47C2-BD3C-23402A45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479EE-4BF3-4DD4-BE4C-92DE51E1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386A3-F509-46D0-B2C1-BD04FFEF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79F2-08D6-48CC-8A59-6E054A78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5E4C0-32B4-4BF8-BBE4-74660C3D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81535-C248-4681-A897-88809D51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B47DE-FCCC-4B75-AEDF-4BC2D797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55F84-43BB-4267-BF56-B3D0F9F30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3EB7A-E164-4F13-A56A-0778E6B3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59122-E23C-4480-A3E1-DFA23E25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575C8-8674-469C-9818-56D028F2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32828-04CD-4DC4-B847-F99EC0E3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1B52D-4524-4A3B-89C4-089EAEAD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EE9FE-E318-499F-BEF9-D239D74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8E61-946A-4BC0-81FD-ECCCA48E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4FA6-D6C8-499F-8E13-5430DB92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EFA92-1738-4092-B48E-6BDB69AA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BA86E-DBCE-4540-BE24-B1C8A5EED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43B08-8BFF-4EC4-B5D4-CDAB7A1BE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4EEED-8EDE-461F-9C07-3A93CF28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28A4B-1E5D-452F-9627-4D988DB9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6EC56-7EEA-422F-BCDC-E6F6B77B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64229-DF62-4974-A056-66884212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059A4-3170-45A6-B049-F4BBBA1B8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67301-C21C-4BFE-AA53-019936F41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C662-CD7E-4801-9456-5EE26B20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EF933-A1C8-4294-B67A-2FDF9F33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5A03C-E42F-40D5-AA02-AD2AFF81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7A16C-0E20-43E6-B8B9-5B84EEED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20028-7D10-4115-B716-9096B4DE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8E517-4522-474F-AE27-97D2CDC9D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3CC-8869-4894-8781-471C43B8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lessia Auriem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schia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30B1-355B-435A-8E85-2145ED48471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Triangolo isosce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lessia Auriem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Ischia 20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6511-A10D-43BE-A737-9C1B6C81B71A}" type="slidenum">
              <a:rPr b="0" lang="it-IT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lessia Auriem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schia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F57C-794B-4A95-A9A1-AAB58846E07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Triangolo rettangolo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riangolo isosce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Connettore 1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Connettore 1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lessia Auriem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schia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0FF5-0C69-4790-B6F6-A3EE691929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Alessia Auriem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it-IT" sz="1000" spc="-1" strike="noStrike">
                <a:solidFill>
                  <a:srgbClr val="000000"/>
                </a:solidFill>
                <a:latin typeface="Times New Roman"/>
              </a:rPr>
              <a:t>Ischia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0E7B-4612-447E-93AA-029B56A2E21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lessia Auriem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schia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D4D5-2676-4000-BE5D-61DD48A7813B}" type="slidenum"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riangolo rettangolo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66666">
                  <a:alpha val="1176"/>
                </a:srgbClr>
              </a:gs>
              <a:gs pos="100000">
                <a:srgbClr val="66666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Connettore 1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8e8e8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Connettore 1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aeae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Alessia Auriemm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Ischia 2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C513-8E8C-4513-9330-C9F414BAFB30}" type="slidenum">
              <a:rPr b="0" lang="it-IT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812960" y="87156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6094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ahoma"/>
              </a:rPr>
              <a:t>Avv. Alessia Auriem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1882800"/>
            <a:ext cx="8534160" cy="31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82800" bIns="982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L’access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ai documenti amministrativ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0B28-EDAB-43A2-A217-9684E66F471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8122-5389-4AD6-B8D6-312C1ED040CD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3714840" y="128592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214200" y="2714760"/>
            <a:ext cx="2500560" cy="9284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C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AutoShape 5"/>
          <p:cNvSpPr/>
          <p:nvPr/>
        </p:nvSpPr>
        <p:spPr>
          <a:xfrm>
            <a:off x="3429000" y="500040"/>
            <a:ext cx="5072040" cy="21430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NDOPROCEDIMENT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ndenza del proced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mministr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ercizio dei poteri di partecip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AutoShape 6"/>
          <p:cNvSpPr/>
          <p:nvPr/>
        </p:nvSpPr>
        <p:spPr>
          <a:xfrm>
            <a:off x="3429000" y="4000680"/>
            <a:ext cx="5430960" cy="2071440"/>
          </a:xfrm>
          <a:prstGeom prst="roundRect">
            <a:avLst>
              <a:gd name="adj" fmla="val 14602"/>
            </a:avLst>
          </a:prstGeom>
          <a:solidFill>
            <a:srgbClr val="ccccff"/>
          </a:solidFill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SOPROCEDIMENT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 conclusione del procedimen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mministr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cquisizione degli elementi fondanti 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ecisione delle P.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24"/>
          <p:cNvSpPr/>
          <p:nvPr/>
        </p:nvSpPr>
        <p:spPr>
          <a:xfrm flipV="1">
            <a:off x="2714760" y="2499840"/>
            <a:ext cx="785520" cy="7095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2714760" y="3357720"/>
            <a:ext cx="714240" cy="85716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D96C-FDA6-47D8-994C-F5B1C66ABDFB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533160" y="1218960"/>
            <a:ext cx="79246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marL="331200" indent="-282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1200" indent="-282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t. 22, comma 4, L. n. 214/90:   ogni rappresentazione grafica, fotocinematografica, elettromagnetica o di qualunque altra specie del contenuto di atti, anche interni o non relativi ad uno specifico procedimento, detenuti da una P.A. e concernenti attività di pubblico interesse, indipendentemente dalla natura pubblicistica o privatistica della loro disciplina sostanziale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1200" indent="-282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1200" indent="-28296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862C-0CC4-4B06-BE25-A70B489544D6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"/>
          <p:cNvSpPr/>
          <p:nvPr/>
        </p:nvSpPr>
        <p:spPr>
          <a:xfrm>
            <a:off x="914400" y="3429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"/>
          <p:cNvSpPr/>
          <p:nvPr/>
        </p:nvSpPr>
        <p:spPr>
          <a:xfrm>
            <a:off x="1066680" y="3505320"/>
            <a:ext cx="7391520" cy="2654280"/>
          </a:xfrm>
          <a:prstGeom prst="rect">
            <a:avLst/>
          </a:prstGeom>
          <a:noFill/>
          <a:ln w="792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Si considera documento amministrativo tanto</a:t>
            </a:r>
            <a:r>
              <a:rPr b="0" lang="it-IT" sz="24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quello </a:t>
            </a:r>
            <a:r>
              <a:rPr b="1" lang="it-IT" sz="2400" spc="-1" strike="noStrike">
                <a:solidFill>
                  <a:srgbClr val="ff388c"/>
                </a:solidFill>
                <a:latin typeface="Century Gothic"/>
              </a:rPr>
              <a:t>formato</a:t>
            </a: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, quanto quello </a:t>
            </a:r>
            <a:r>
              <a:rPr b="1" lang="it-IT" sz="2400" spc="-1" strike="noStrike">
                <a:solidFill>
                  <a:srgbClr val="ff388c"/>
                </a:solidFill>
                <a:latin typeface="Century Gothic"/>
              </a:rPr>
              <a:t>detenuto</a:t>
            </a:r>
            <a:r>
              <a:rPr b="1" lang="it-IT" sz="2400" spc="-1" strike="noStrike">
                <a:solidFill>
                  <a:srgbClr val="000000"/>
                </a:solidFill>
                <a:latin typeface="Century Gothic"/>
              </a:rPr>
              <a:t> da una P.A., quindi, è tale anche il documento rappresentativo di atti di diritto privato detenuto dall’amministrazione in funzione della sua attività di pubblico interesse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380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oggetto dell’accesso : il documento amministra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A144E-5A06-4398-AEE5-60D52968A32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3712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rientamento giurisprudenziale originario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ssenza di esercizio di poteri autoritativi nell’attività di diritto privato della P.A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1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CF12-3755-42CB-9BC8-387AC9F49CA3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380880" y="30492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88c"/>
                </a:solidFill>
                <a:latin typeface="Tahoma"/>
              </a:rPr>
              <a:t>ATTI DI DIRITTO PRIVATO DELLA P.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"/>
          <p:cNvSpPr/>
          <p:nvPr/>
        </p:nvSpPr>
        <p:spPr>
          <a:xfrm>
            <a:off x="4419720" y="3809880"/>
            <a:ext cx="838080" cy="914400"/>
          </a:xfrm>
          <a:prstGeom prst="downArrow">
            <a:avLst>
              <a:gd name="adj1" fmla="val 50000"/>
              <a:gd name="adj2" fmla="val 27277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990720" y="44197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4648320"/>
            <a:ext cx="723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ccesso consentito unicamente in relazione ad atti concernenti attività ricollegabili all’esercizio di potestà pubblicisti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AF346-27C1-45E6-A72A-665F4027C224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62D2-E1D6-4736-91B5-F4C0CB8E43B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1828800" y="304920"/>
            <a:ext cx="5486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143000" y="1371600"/>
            <a:ext cx="7315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762120" y="1295280"/>
            <a:ext cx="7619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388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762120" y="38088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3520" y="304920"/>
            <a:ext cx="807696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Orientamento giurisprudenziale success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1447920" y="1676520"/>
            <a:ext cx="6095880" cy="5205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88c"/>
                </a:solidFill>
                <a:latin typeface="Tahoma"/>
              </a:rPr>
              <a:t>INVERSIONE DI TENDEN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"/>
          <p:cNvSpPr/>
          <p:nvPr/>
        </p:nvSpPr>
        <p:spPr>
          <a:xfrm>
            <a:off x="304920" y="2514600"/>
            <a:ext cx="3429000" cy="1295280"/>
          </a:xfrm>
          <a:prstGeom prst="foldedCorner">
            <a:avLst>
              <a:gd name="adj" fmla="val 12500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.d.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cisione n. 87/199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5257800" y="2514600"/>
            <a:ext cx="3581280" cy="1295280"/>
          </a:xfrm>
          <a:prstGeom prst="foldedCorner">
            <a:avLst>
              <a:gd name="adj" fmla="val 12500"/>
            </a:avLst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dunanza Plenar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cisioni nn. 4 e 5/199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4267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4191120"/>
            <a:ext cx="7559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Accesso consentito anche agli atti di diritto privato della P.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Per tutti gli atti della P.A. sussistono esigenze di traspar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rrilevanza, ai fini dell’accesso, della disciplina sostanziale dell’atto (privatistica o pubblicistic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CDD-FA64-4DDC-9BBF-B63F8FABC81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6E88-EB4D-4778-9D4F-1E605816060D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1676520"/>
            <a:ext cx="79250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ubbliche amministrazion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nti pubbli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estori di pubblici serviz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ziende autonome e specia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utorità di garanzia e di vigilanz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mministrazione comunit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mprese di assicurazi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4572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 soggetti passivi :   obbligati a consentire l’ac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574B-6BAC-4C68-B844-3A7F7A7563C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3828-CEC8-47AF-BD9B-9038CCD9A3F0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533520" y="152280"/>
            <a:ext cx="7696080" cy="825480"/>
          </a:xfrm>
          <a:prstGeom prst="rect">
            <a:avLst/>
          </a:prstGeom>
          <a:noFill/>
          <a:ln w="50760">
            <a:solidFill>
              <a:srgbClr val="e4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MITAZIONI ALL’ESERCIZIO DEL DIRITTO DI AC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380880" y="1143000"/>
            <a:ext cx="85345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ART. 24, L. n. 241/19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DUPLICE ORDINE DI LIMI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228600" y="3429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228600" y="2743200"/>
            <a:ext cx="2971800" cy="914400"/>
          </a:xfrm>
          <a:prstGeom prst="rect">
            <a:avLst/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88c"/>
                </a:solidFill>
                <a:latin typeface="Tahoma"/>
              </a:rPr>
              <a:t>TASSAT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28600" y="4724280"/>
            <a:ext cx="2971800" cy="914400"/>
          </a:xfrm>
          <a:prstGeom prst="rect">
            <a:avLst/>
          </a:prstGeom>
          <a:solidFill>
            <a:srgbClr val="ffffff"/>
          </a:solidFill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88c"/>
                </a:solidFill>
                <a:latin typeface="Tahoma"/>
              </a:rPr>
              <a:t>FACOLTATIV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"/>
          <p:cNvSpPr/>
          <p:nvPr/>
        </p:nvSpPr>
        <p:spPr>
          <a:xfrm>
            <a:off x="33526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>
            <a:off x="3352680" y="29718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"/>
          <p:cNvSpPr/>
          <p:nvPr/>
        </p:nvSpPr>
        <p:spPr>
          <a:xfrm>
            <a:off x="5029200" y="2362320"/>
            <a:ext cx="396252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ANCITI A LIVELLO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NORMATIVO-LEGISLA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ESCLUSIONE DELL’ACCES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"/>
          <p:cNvSpPr/>
          <p:nvPr/>
        </p:nvSpPr>
        <p:spPr>
          <a:xfrm>
            <a:off x="5029200" y="4419720"/>
            <a:ext cx="3962520" cy="182880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ISSATI DISCREZIONALMENT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ALLA P.A. (ART. 23, L. 241/9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DIFFERIMENTO DELL’ACCES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89D-558D-4820-92EF-2696BF50E152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9A8B9-28FE-492F-B38C-B3F689A4A89B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533520" y="3808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88c"/>
                </a:solidFill>
                <a:latin typeface="Arial"/>
              </a:rPr>
              <a:t>ESCLUSIONE DEL DIRITTO DI ACCE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0" y="1295280"/>
            <a:ext cx="891540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388c"/>
              </a:buClr>
              <a:buSzPct val="2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 i documenti coperti da segreto di Stato ai sensi della legge 24 ottobre 1977, n. 801, e successive modificazioni, e nei casi di segreto o di divieto di divulgazione espressamente previsti dalla legge, da regolamento governativo e dalle pubbliche amministrazion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388c"/>
              </a:buClr>
              <a:buSzPct val="25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i procedimenti tributari, per i quali restano ferme le particolari norme che li regolan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388c"/>
              </a:buClr>
              <a:buSzPct val="2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i confronti dell'attività della pubblica amministrazione diretta all'emanazione di atti normativi, amministrativi generali, di pianificazione e di programmazione, per i quali restano ferme le particolari norme che ne regolano la form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388c"/>
              </a:buClr>
              <a:buSzPct val="2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ei procedimenti selettivi, nei confronti dei documenti amministrativi contenenti informazioni di carattere psicoattitudinale relativi a terz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388c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228600" y="34290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3678-5BEE-465E-BD16-1060159F11A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1"/>
          <p:cNvSpPr/>
          <p:nvPr/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RIMINI 201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Segnaposto piè di pagina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ALESSIA AURIEMM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D5BE-D60F-43BD-BC91-D96B04C515F5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19320" y="380880"/>
            <a:ext cx="6629400" cy="45972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88c"/>
                </a:solidFill>
                <a:latin typeface="Arial"/>
              </a:rPr>
              <a:t>ART. 24, comma 6, L. n. 241/199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Text Box 3"/>
          <p:cNvSpPr/>
          <p:nvPr/>
        </p:nvSpPr>
        <p:spPr>
          <a:xfrm>
            <a:off x="533520" y="137160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GOVERNO, ATTRAVERSO L’EMANAZIONE DI UN APPOSITO REGOLAMENTO, PUO’ INDIVIDUARE ULTERIORI CASI DI ESCLUSIONE DEL DIRITTO DI ACCES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266688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609480" y="2286000"/>
            <a:ext cx="807732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UTELA DELLA SICUREZZ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IFESA NAZIONA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LITICA MONETARIA E VALUTAR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RDINE PUBBL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CUMENTI CHE RIGUARDANO LA CONTRATTAZIONE COLLETTIVA NAZIONALE DI LAVORO OPPURE LA VITA PRIVATA O LA RISERVATEZZA DI PERSONE FISICHE, PERSONE GIURIDICHE, GRUPPI, IMPRESE E ASSOCIAZION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3836-2A2E-4CFD-9526-1C1B7F6866A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DBA1-4DBC-4BCA-BA36-8A9CD3CE5CA7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914400"/>
            <a:ext cx="8076960" cy="4572000"/>
          </a:xfrm>
          <a:prstGeom prst="foldedCorner">
            <a:avLst>
              <a:gd name="adj" fmla="val 12500"/>
            </a:avLst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EVE ESSERE COMUNQUE GARANTITO L’AC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I DOCUMENTI AMMINISTRA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CUI CONOSCENZA SIA NECESSARIA P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FENDERE E CUR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GLI INTERESSI GIURIDICI DEL RICHIED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1219320"/>
            <a:ext cx="1371600" cy="4597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RT. 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7072-9B44-4587-AD97-DF37D6867A4A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80520" y="228240"/>
            <a:ext cx="8534520" cy="2438280"/>
          </a:xfrm>
          <a:prstGeom prst="rect">
            <a:avLst/>
          </a:prstGeom>
          <a:noFill/>
          <a:ln w="63360">
            <a:solidFill>
              <a:srgbClr val="ff388c"/>
            </a:solidFill>
            <a:miter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.P.R. n. 352/1992 –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e singole amministrazioni possono, con proprio regolamento, procedere all’individuazione di categorie di documenti sottratti all’accesso (totalmente o parzialmente, temporaneamente o in via definitiva) in relazione a specifiche esigenze di settore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9C64-D787-40E9-94F8-62EC32CDB214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 rot="5400000">
            <a:off x="1028160" y="2933640"/>
            <a:ext cx="1905120" cy="3352680"/>
          </a:xfrm>
          <a:prstGeom prst="flowChartPunchedTape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.P.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. 352/199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6134040" y="2933280"/>
            <a:ext cx="1905120" cy="3353040"/>
          </a:xfrm>
          <a:prstGeom prst="flowChartPunchedTape">
            <a:avLst/>
          </a:pr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COMPAR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CUO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.M. n. 60/199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4038480" y="411480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38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4DC20-DBC5-47D4-8710-BD19DA4EC18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egnaposto data 1"/>
          <p:cNvSpPr/>
          <p:nvPr/>
        </p:nvSpPr>
        <p:spPr>
          <a:xfrm>
            <a:off x="1359000" y="5857920"/>
            <a:ext cx="19047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62626"/>
                </a:solidFill>
                <a:latin typeface="Tahoma"/>
              </a:rPr>
              <a:t>Alessia Auriemm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Segnaposto piè di pagina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62626"/>
                </a:solidFill>
                <a:latin typeface="Tahoma"/>
              </a:rPr>
              <a:t>Rimini 201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0189-3728-43D7-979C-6AF314E3FEFC}" type="slidenum">
              <a:rPr b="0" lang="it-IT" sz="1200" spc="-1" strike="noStrike">
                <a:solidFill>
                  <a:srgbClr val="26262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152280" y="45720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E   FONTI   NORM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285840" y="1071720"/>
            <a:ext cx="84772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EGGE 7 agosto 1990, n. 241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   CAPO V (artt. 22-2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Nuove norme in materia di procedimento amministrativo e di accesso ai documenti amministra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.P.R. 12 aprile 2006, n. 18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Regolamento recante disciplina in materia di accesso ai documenti amministra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609480" y="342900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717-BAA4-4E59-9A1C-4A5CBFB1A68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5B23-429E-494D-9780-CD58A2D532B0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"/>
          <p:cNvSpPr/>
          <p:nvPr/>
        </p:nvSpPr>
        <p:spPr>
          <a:xfrm>
            <a:off x="914400" y="30492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"/>
          <p:cNvSpPr/>
          <p:nvPr/>
        </p:nvSpPr>
        <p:spPr>
          <a:xfrm>
            <a:off x="2209680" y="490680"/>
            <a:ext cx="93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990720" y="228600"/>
            <a:ext cx="7010280" cy="947160"/>
          </a:xfrm>
          <a:prstGeom prst="rect">
            <a:avLst/>
          </a:prstGeom>
          <a:noFill/>
          <a:ln w="66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88c"/>
                </a:solidFill>
                <a:latin typeface="Tahoma"/>
              </a:rPr>
              <a:t>COMPARTO SCUO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88c"/>
                </a:solidFill>
                <a:latin typeface="Tahoma"/>
              </a:rPr>
              <a:t>D.M. 60/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1447920"/>
            <a:ext cx="876312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NIEGO DELL’ACCESS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rapporti informativi sul personale dipend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ocumenti concernenti informazioni di carattere psico-attitudinale,     con esclusione di quelli concernenti i criteri generali fissati dall'Amministrazi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ocumenti rappresentativi di accertamenti e dichiarazioni medico-legal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ocumenti relativi alla salute delle pers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ocumenti rappresentativi di interventi dell'autorità giudiziaria o delle Procure della Corte dei Conti relativi a soggetti per i quali si delinea responsabilità civile, penale o amministrativa, comprese relazioni alla Corte dei conti e atti di promovimento di azioni di responsabilità davanti all'autorità giudiziar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EDE33-C767-4213-9420-B46210B1B3A9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B412-ED0D-4D56-9EFA-E1CD7D4BB083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"/>
          <p:cNvSpPr/>
          <p:nvPr/>
        </p:nvSpPr>
        <p:spPr>
          <a:xfrm>
            <a:off x="685800" y="380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FFERIMENTO DELL’ACCES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"/>
          <p:cNvSpPr/>
          <p:nvPr/>
        </p:nvSpPr>
        <p:spPr>
          <a:xfrm>
            <a:off x="6858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1219320"/>
            <a:ext cx="8229600" cy="49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zione finale e documentazione richiamata in caso di incarichi ispettivi nei confronti di dipendenti, scuole o enti vigilati (fino alla conclusione del procediment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aborati e schede di valutazione nei procedimenti concorsuali e di selezione del personale (fino alla conclusione delle varie fasi procedurali ed esclusi gli atti relativi ad altri concorrent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00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erte contrattuali nei procedimenti di scelta del contraente (fino alla conclusione del procediment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388c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655D7-07E0-4F8D-867C-399B934C123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4577-EA53-4CDB-9755-67D421CD7397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"/>
          <p:cNvSpPr/>
          <p:nvPr/>
        </p:nvSpPr>
        <p:spPr>
          <a:xfrm>
            <a:off x="1295280" y="152280"/>
            <a:ext cx="6400800" cy="459720"/>
          </a:xfrm>
          <a:prstGeom prst="rect">
            <a:avLst/>
          </a:prstGeom>
          <a:noFill/>
          <a:ln w="63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MODALITA’ DI ESERCIZIO DELL’AC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609480" y="1295280"/>
            <a:ext cx="7543800" cy="119124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.P.R. n. 184/2006 – Regolamento recante disciplina delle modalità di esercizio del diritto di accesso ai documenti amministrativi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2362320" y="2895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ue modalità di eserciz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3886200"/>
            <a:ext cx="2743200" cy="1752480"/>
          </a:xfrm>
          <a:prstGeom prst="rect">
            <a:avLst/>
          </a:prstGeom>
          <a:solidFill>
            <a:srgbClr val="ff99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CCE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INFOR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5715000" y="3886200"/>
            <a:ext cx="2743200" cy="1752480"/>
          </a:xfrm>
          <a:prstGeom prst="rect">
            <a:avLst/>
          </a:prstGeom>
          <a:solidFill>
            <a:srgbClr val="ff99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CCE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ORM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ECA1D-68EC-4F72-A55E-B017550639A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A6A2-B928-47EC-8A55-A5A9484096DE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228600"/>
            <a:ext cx="8610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A RICHIESTA   DEVE ESSERE MOTIV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A RICHIESTA VA PRESENTATA ALL’AMMINISTRAZIONE CHE HA FORMATO O DETIENE STABILMENTE IL DOCU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ACCESSO E’ ESERCITABILE FINO A QUANDO SUSSISTA L’OBBLIGO PER   LA P.A. DI DETENERE IL DOCU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ESERCIZIO DEL DIRITTO SI ARTICOLA NELLA DUPLICE ATTIVITA’ DI VISIONE DEGLI ATTI E DI ESTRAZIONE DI COPIA DEGLI STESS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ACCESSO PUO’ ESSERE RICHIESTO UNICAMENTE IN RELAZIONE A DOCUMENTI PREESISTENTI E NON AL FINE DI FAVORIRE LA COSTITUZIONE DI NUOVI DOCUMEN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A RICHIESTA E’ ACCOLTA MEDIANTE INDICAZIONE DELLA PUBBLICAZIONE CONTENENTE LE NOTIZIE, ESIBIZIONE DI COPIE O ALTRA MODALITA’ IDONE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F416C-0563-4E38-AFBF-412EF96BF8B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C107-34D9-4571-B3BA-12011637AED4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80880"/>
            <a:ext cx="9144000" cy="55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’ATTO DI ACCOGLIMENTO DELL’ISTANZA DI ACCESSO CONTIENE L’INDICAZIONE DELL’UFFICIO A CUI RIVOLGERSI E DI UN PERIODO DI TEMPO (NON MENO DI 15 GG.) PER PRENDERE VISIONE ED ESTRARRE COPIA DELL’AT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’ESAME DEI DOCUMENTI AVVIENE PRESSO L’UFFICIO INDICATO, NELLE ORE D’UFFICIO, IN PRESENZA DEL PERSONALE ADDET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’ACCOGLIMENTO DELL’ISTANZA CONSENTE DI ACCEDERE ANCHE AD ALTRI DOCUMENTI INDICATI NEL DOCUMENTO RICHIESTO E RELATIVI ALLO STESSO PROCEDIM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 DOCUMENTI OGGETTO DI ACCESSO NON POSSONO ESSERE ASPORTATI O ALTERA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’ESAME DEL DOCUMENTO E’ EFFETTUATO DAL RICHIEDENTE O DA PERSONA DA LUI INCARIC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’INTERESSATO PUO’ PRENDERE APPUNTI O TRASCRIVERE IN TUTTO O IN PARTE IL CONTENUTO DEI DOCUMENTI VISIONA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L’ESTRAZIONE DI COPIA AVVIENE MEDIANTE PAGAMENTO DEGLI IMPORTI DOVUT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U RICHIESTA DELL’INTERESSATO LE COPIE POSSONO ESSERE AUTENTIC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D2AB8-7670-475C-9027-A8D3E73F8236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1E04-10D4-4FEC-A388-BF663C8C0B64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"/>
          <p:cNvSpPr/>
          <p:nvPr/>
        </p:nvSpPr>
        <p:spPr>
          <a:xfrm>
            <a:off x="762120" y="10666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’ACCESSO AI DOCUMENTI AMMINISTRATIVI NON PUO’ ESSERE NEGATO OVE SIA SUFFICIENTE RICORRERE AL POTERE DI DIFFERIMENTO (art. 24, L. n. 241/199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1523880" y="30492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1295280" y="304920"/>
            <a:ext cx="6782040" cy="459720"/>
          </a:xfrm>
          <a:prstGeom prst="rect">
            <a:avLst/>
          </a:prstGeom>
          <a:noFill/>
          <a:ln w="38160">
            <a:solidFill>
              <a:srgbClr val="ff7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DINIEGO E DIFFERIMENTO DELL’AC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1119240" y="2743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2438280"/>
            <a:ext cx="8153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DINIEGO DI ACCESS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viene disposto sulla base di una valutazione approfondita circa il rapporto tra l’informazione richiesta e interessi meritevoli di particolare tutela, laddove questi si considerino prevalenti sull’interesse all’informazi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533520" y="4191120"/>
            <a:ext cx="3657600" cy="205740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NTERESSI PUBBLIC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ICUREZZ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IFESA NAZIONA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RELAZIONI INTERNAZION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ORDINE PUBBL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4952880" y="4191120"/>
            <a:ext cx="3657600" cy="2057400"/>
          </a:xfrm>
          <a:prstGeom prst="rect">
            <a:avLst/>
          </a:prstGeom>
          <a:solidFill>
            <a:srgbClr val="ff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INTERESSI PRIVA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TERESSE ALLA PRIVA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TERESSE SANIT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TERESSE PROFESSIONA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TERESSE FINANZIARI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AC140-63CB-4ED7-8674-C7FD8C1B5A82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FB22-C785-4040-8B76-8722A2DB56A0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533520" y="304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DIFFERIMENTO DELL’ACCESS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osticipazione dell’ostensione del documento quando l’immediata esibizione e la conoscenza dello stesso possa impedire o gravemente ostacolare il regolare svolgimento dell’azione amministrativ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523880" y="254808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533520" y="2362320"/>
            <a:ext cx="815328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ff"/>
                </a:solidFill>
                <a:latin typeface="Tahoma"/>
              </a:rPr>
              <a:t>DIFFERIMENTO VINCOLATO</a:t>
            </a:r>
            <a:r>
              <a:rPr b="0" lang="it-IT" sz="24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reordinato alla tutela degli interessi pubblici indicati nell’art. 24, L. n. 241/1990 e ammesso in ipotesi tass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ff"/>
                </a:solidFill>
                <a:latin typeface="Tahoma"/>
              </a:rPr>
              <a:t>DIFFERIMENTO DISCREZIONAL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otivatamente esercitabile quando si renda necessario per evitare pregiudizi o gravi ostacoli al regolare svolgimento dell’azione amministrati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F611-E0D8-4260-9723-99ECB6792DC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35B56-41F6-4D6B-AC6B-3BEAFF86A76E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685800" y="262080"/>
            <a:ext cx="7696080" cy="4597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ff"/>
                </a:solidFill>
                <a:latin typeface="Tahoma"/>
              </a:rPr>
              <a:t>TUTELA GIURISDIZIONALE DEL DIRITTO DI AC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1295280"/>
            <a:ext cx="67212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N CASO DI DINIEGO, ESPRESSO O TACITO, O DI DIFFERIMEN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DUE RIMEDI ALTERNATI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ff"/>
                </a:solidFill>
                <a:latin typeface="Tahoma"/>
              </a:rPr>
              <a:t>(termine di 30 giorn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4267080"/>
            <a:ext cx="3505320" cy="1905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RICORSO 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T.A.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4952880" y="4267080"/>
            <a:ext cx="3505320" cy="19051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RICHIESTA RIES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Difensore civ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Ca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9DEB7-D06C-4761-919C-FFD39651989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A0ED-AA31-42FD-9044-2576405EB516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295280" y="304920"/>
            <a:ext cx="6629400" cy="459720"/>
          </a:xfrm>
          <a:prstGeom prst="rect">
            <a:avLst/>
          </a:prstGeom>
          <a:noFill/>
          <a:ln w="475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ACCESSO E TUTELA DELLA PRIVA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762120" y="1219320"/>
            <a:ext cx="7696080" cy="2895480"/>
          </a:xfrm>
          <a:prstGeom prst="rect">
            <a:avLst/>
          </a:prstGeom>
          <a:solidFill>
            <a:srgbClr val="ff99ff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ORMATIVA DI RIFERIM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. n. 241 del 1990 (art. 2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. Lgs. 30. 06. 2003, n. 196 (artt. 59 e 60) –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dice in materia di protezione dei dati perso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1066680" y="5062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838080" y="4952880"/>
            <a:ext cx="381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52912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4419720"/>
            <a:ext cx="69339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TRE CATEGORIE DI DATI PERSONAL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Dati comuni della perso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Dati sensibil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Dati cd. “supersensibili o sensibilissim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64EC-2A78-4196-A786-9E7797F06656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1BFF-51AE-4DD1-B33A-65AE1B060898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3352680" y="414360"/>
            <a:ext cx="100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>
            <a:off x="1828800" y="228600"/>
            <a:ext cx="548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ff"/>
                </a:solidFill>
                <a:latin typeface="Tahoma"/>
              </a:rPr>
              <a:t>DATI COMUNI DELLA PERSO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990720" y="1371600"/>
            <a:ext cx="739116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ff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ssenza, nel Codice della Privacy, di una disciplina derogatoria delle ordinarie prescrizioni contenute nella L. n. 241/9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pplicazione della normativa vigente in materia di acces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F3841-2280-4EB0-B186-8AC91C8E53DA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egnaposto data 1"/>
          <p:cNvSpPr/>
          <p:nvPr/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62626"/>
                </a:solidFill>
                <a:latin typeface="Tahoma"/>
              </a:rPr>
              <a:t>Alessia Auriemm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Segnaposto piè di pagina 2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262626"/>
                </a:solidFill>
                <a:latin typeface="Tahoma"/>
              </a:rPr>
              <a:t>Rimini 201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8A2E-E985-47DA-A99B-9C250C02810B}" type="slidenum">
              <a:rPr b="0" lang="it-IT" sz="1200" spc="-1" strike="noStrike">
                <a:solidFill>
                  <a:srgbClr val="26262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Text Box 1026"/>
          <p:cNvSpPr/>
          <p:nvPr/>
        </p:nvSpPr>
        <p:spPr>
          <a:xfrm>
            <a:off x="2057400" y="685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Text Box 1027"/>
          <p:cNvSpPr/>
          <p:nvPr/>
        </p:nvSpPr>
        <p:spPr>
          <a:xfrm>
            <a:off x="642960" y="1928880"/>
            <a:ext cx="77868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Text Box 1028"/>
          <p:cNvSpPr/>
          <p:nvPr/>
        </p:nvSpPr>
        <p:spPr>
          <a:xfrm>
            <a:off x="228600" y="304920"/>
            <a:ext cx="8915400" cy="70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ODIFICHE APPORTATE AL CAPO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egge 15/2005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diritto di accesso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iviene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rincipio generale dell’attività amministrativa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 viene ricondotto tra i </a:t>
            </a: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livelli essenziali delle prestazioni concernenti i diritti civili e sociali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E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 (art. 117, comma 2, lett. m), Cost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egge 80/2005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voluzione dell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materia dell’accesso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nell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giurisdizione esclusiva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l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giudice amministra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egge 15/2009 –       modifica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ll’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art. 22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lla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L. n. 241/90: specificazion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lle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finalità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perseguite dalla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normativa sull’accesso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PARTECIPAZION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TRASPARENZA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MPARZIALITA’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dell’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azione amministrativa)           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F76-D944-4E9B-AD9D-5399AEED8B3E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B9D6-56AA-43BA-805B-DC536D4636FB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1295280" y="1522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ff"/>
                </a:solidFill>
                <a:latin typeface="Tahoma"/>
              </a:rPr>
              <a:t>DATI SENSIB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533520" y="838080"/>
            <a:ext cx="8001000" cy="2228400"/>
          </a:xfrm>
          <a:prstGeom prst="rect">
            <a:avLst/>
          </a:prstGeom>
          <a:solidFill>
            <a:srgbClr val="ff99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Art. 4, comma uno, lett. d) del D.Lgs. n. 196/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dati personali idonei a rivelare l’origine razziale ed etnica, le convinzioni religiose, filosofiche o di altro genere, le opinioni politiche, l’adesione a partiti, sindacati, associazioni od organizzazioni di carattere religioso, filosofico, politico o sindaca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914400" y="3276720"/>
            <a:ext cx="76960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ccesso regolato dalla L. n. 241/1990, per effetto del rinvio operato dall’art. 59 del D.Lgs. n. 196/2003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ff00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buClr>
                <a:srgbClr val="ff00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ccesso consentito nei limiti in cui risulti strettamente necessario per la cura e la difesa degli interessi giuridici del richiedente (art. 24, comma 7, L. n. 241/1990)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880C6-D9BC-4F44-9DC9-382D665CFFC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A9A7A-239F-4F5F-8D4F-93E8EC58A22E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1522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ff"/>
                </a:solidFill>
                <a:latin typeface="Tahoma"/>
              </a:rPr>
              <a:t>DATI  SUPERSENSIBIL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838080"/>
            <a:ext cx="8077320" cy="27432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rt. 60, D. Lgs. n. 196/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quando il trattamento concerne dati idonei a rivelare l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tato di salute o la vita sessuale, esso è consentito se 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ituazione giuridicamente rilevante che si intende tutela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con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la richiesta di accesso ai documenti amministrativ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è di rango almeno pari ai diritti dell’interessato, ovv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consiste in un diritto della personalità o in un altr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diritto o libertà fondamentale e inviolabi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914400" y="426708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COMPARAZIONE E BILANCIAMENTO TRA I DUE DIVERSI E CONTRAPPOSTI INTERESSI: ACCESSO E RISERVATEZZ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17C4B-1E1C-4664-8D8A-6E1C6C0F5ABB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67E0-CE25-4965-958C-F3B5E6F94FE2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2438280" y="228600"/>
            <a:ext cx="4419720" cy="45972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COMPARTO  SCUO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1523880"/>
            <a:ext cx="784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D.M. 7 dicembre 2006, n. 305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Regolamento recante identificazione dei dati sensibili e giudiziari trattati e delle relative operazioni effettuate dal Ministero della pubblica istruzione, in attuazione degli articoli 20 e 21 del decreto legislativo 30 giugno 2003 n. 196 «Codice in materia di protezione dei dati personali»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1523880" y="33526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CE1B-11AA-451F-AB53-4359AF29A7C2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971800" y="109440"/>
            <a:ext cx="3200400" cy="459720"/>
          </a:xfrm>
          <a:prstGeom prst="rect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ff"/>
                </a:solidFill>
                <a:latin typeface="Tahoma"/>
              </a:rPr>
              <a:t>7 SCHE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52280" y="1447920"/>
            <a:ext cx="4800600" cy="4973400"/>
          </a:xfrm>
          <a:prstGeom prst="rect">
            <a:avLst/>
          </a:prstGeom>
          <a:solidFill>
            <a:srgbClr val="ff99ff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MBITO DI ATTIVITA’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N.1)   SELEZIONE E RECLUTAMENTO DEL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ERSONALE, GESTIONE RAPPOR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DI LAVOR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N.2)   GESTIONE CONTENZIOSO 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PROCEDIMENTI DISCIPLINAR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N.3)   ORGANISMI COLLEGIALI 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MMISSIONI ISTITUZIONALI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N.4)   ATTIVITA’ PROPEDEUTICH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VVIO DELL’ANNO SCOLASTIC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N.5)   ATTIVITA’ EDUCATIVA, DIDATTIC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FORMATIVA E DI VALUTAZION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N.6)   SCUOLE NON STATAL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N.7)   RAPPORTI SCUOLA-FAMIGLIA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GESTIONE DEL CONTENZIO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5715000" y="1752480"/>
            <a:ext cx="3124080" cy="3886200"/>
          </a:xfrm>
          <a:prstGeom prst="rect">
            <a:avLst/>
          </a:prstGeom>
          <a:solidFill>
            <a:srgbClr val="d2d2d2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INALITA’ PERSEGU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FONTI NORMATIVE D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RIFERIMEN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IPI DI DATI TRATTABIL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(SENSIBILI E GIUDIZIARI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OPERAZIONI ESEGUIBIL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UI DA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>
            <a:off x="7823160" y="6400800"/>
            <a:ext cx="349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1096-871B-4520-8678-D74A29754205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F16-8C7A-4CED-99B1-EB04C017332F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609480" y="380880"/>
            <a:ext cx="792504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ff"/>
                </a:solidFill>
                <a:latin typeface="Tahoma"/>
              </a:rPr>
              <a:t>Art. 20 D. Lgs. n. 196/2003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 soggetti pubblici (uffici dell’amministrazione scolastica centrale e periferica; istituzioni scolastiche ed educative, statali e non statali) possono lecitamente trattare soltanto i dati (sensibili e giudiziari) indicati nel regolamento, per le finalità istituzionali e mediante i tipi di operazione in esso espressamente enunciat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ff"/>
                </a:solidFill>
                <a:latin typeface="Tahoma"/>
              </a:rPr>
              <a:t>Art. 22 D. Lgs. n. 196/2003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 dati devono essere trattati secondo i principi della esattezza, pertinenza, completezza, non eccedenza e indispensabilità, nonché con modalità volte a prevenire violazioni dei diritti, delle libertà fondamentali e della dignità dell’interessat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7924680" y="6324480"/>
            <a:ext cx="457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E474-8B27-4B5C-9803-5B76454B16F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C03-82AE-4545-9CA0-086CC5C04789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914400" y="914400"/>
            <a:ext cx="7315200" cy="4952880"/>
          </a:xfrm>
          <a:prstGeom prst="rect">
            <a:avLst/>
          </a:prstGeom>
          <a:solidFill>
            <a:srgbClr val="ff99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ahoma"/>
              </a:rPr>
              <a:t>GRAZIE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ahoma"/>
              </a:rPr>
              <a:t>PER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00"/>
                </a:solidFill>
                <a:latin typeface="Tahoma"/>
              </a:rPr>
              <a:t>L’ATTENZION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B7D6-46EC-4596-9498-2EF9B9611FCF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370-0024-47F6-8E93-17622ECC3E2F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Oval 3"/>
          <p:cNvSpPr/>
          <p:nvPr/>
        </p:nvSpPr>
        <p:spPr>
          <a:xfrm>
            <a:off x="6143760" y="3429000"/>
            <a:ext cx="2519280" cy="180036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62626"/>
                </a:solidFill>
                <a:latin typeface="Arial"/>
              </a:rPr>
              <a:t>INTERES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62626"/>
                </a:solidFill>
                <a:latin typeface="Arial"/>
              </a:rPr>
              <a:t>LEGITTIM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AutoShape 4"/>
          <p:cNvSpPr/>
          <p:nvPr/>
        </p:nvSpPr>
        <p:spPr>
          <a:xfrm rot="14060400">
            <a:off x="1744200" y="2028600"/>
            <a:ext cx="990720" cy="1111320"/>
          </a:xfrm>
          <a:prstGeom prst="upDownArrow">
            <a:avLst>
              <a:gd name="adj1" fmla="val 50926"/>
              <a:gd name="adj2" fmla="val 26423"/>
            </a:avLst>
          </a:prstGeom>
          <a:solidFill>
            <a:srgbClr val="26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AutoShape 5"/>
          <p:cNvSpPr/>
          <p:nvPr/>
        </p:nvSpPr>
        <p:spPr>
          <a:xfrm rot="16200000">
            <a:off x="3929760" y="4021560"/>
            <a:ext cx="1079640" cy="1776600"/>
          </a:xfrm>
          <a:prstGeom prst="upDownArrow">
            <a:avLst>
              <a:gd name="adj1" fmla="val 50000"/>
              <a:gd name="adj2" fmla="val 26633"/>
            </a:avLst>
          </a:prstGeom>
          <a:solidFill>
            <a:srgbClr val="26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Oval 6"/>
          <p:cNvSpPr/>
          <p:nvPr/>
        </p:nvSpPr>
        <p:spPr>
          <a:xfrm>
            <a:off x="533520" y="3352680"/>
            <a:ext cx="2519280" cy="180036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62626"/>
                </a:solidFill>
                <a:latin typeface="Tahoma"/>
              </a:rPr>
              <a:t>DIRIT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62626"/>
                </a:solidFill>
                <a:latin typeface="Tahoma"/>
              </a:rPr>
              <a:t>SOGGETT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AutoShape 7"/>
          <p:cNvSpPr/>
          <p:nvPr/>
        </p:nvSpPr>
        <p:spPr>
          <a:xfrm rot="18444600">
            <a:off x="5992560" y="2017440"/>
            <a:ext cx="990720" cy="1187640"/>
          </a:xfrm>
          <a:prstGeom prst="upDownArrow">
            <a:avLst>
              <a:gd name="adj1" fmla="val 50000"/>
              <a:gd name="adj2" fmla="val 23864"/>
            </a:avLst>
          </a:prstGeom>
          <a:solidFill>
            <a:srgbClr val="2626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Oval 8"/>
          <p:cNvSpPr/>
          <p:nvPr/>
        </p:nvSpPr>
        <p:spPr>
          <a:xfrm>
            <a:off x="2286000" y="428760"/>
            <a:ext cx="4071960" cy="1726920"/>
          </a:xfrm>
          <a:prstGeom prst="ellipse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62626"/>
                </a:solidFill>
                <a:latin typeface="Arial"/>
              </a:rPr>
              <a:t>NATURA GIURIDICA DE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262626"/>
                </a:solidFill>
                <a:latin typeface="Arial"/>
              </a:rPr>
              <a:t>DIRIT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80CB-1946-4164-A0E8-23B7AACD2A14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28600" y="1000080"/>
            <a:ext cx="87631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FINI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ELENCATE ALL’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. 2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. n. 241/90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iritto di accesso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diritto degli interessati di prendere visione e di estrarre copia dei documenti amministrativi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interessati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tutti i soggetti privati, compresi quelli portatori di interessi pubblici o diffusi, che abbiano un interesse diretto, concreto e attuale, corrispondente ad una situazione giuridicamente tutelata e collegata al documento al quale è chiesto l’accesso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ontrointeressati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tutti i soggetti, individuati o facilmente individuabili in base alla natura del documento richiesto, che dall’esercizio dell’accesso vedrebbero compromesso il loro diritto alla riservatezza;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documento amministrativ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ogni rappresentazione grafica, fotocinematografica, elettromagnetica o di qualunque altra specie del contenuto di atti, anche interni o non relativi ad uno specifico procedimento, detenuti da una P.A. e concernenti attività di pubblico interesse, indipendentemente dalla natura pubblicistica o privatistica della loro disciplina sostanzial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ubblica amministrazion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 tutti i soggetti di diritto pubblico e i soggetti di diritto privato limitatamente alla loro attività di pubblico interess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8195-9304-4EF1-89A8-638A52DBC6CD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1752480" y="228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sciplina   e  ogget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6BE1E-8FF6-4426-A61C-7F3108C922CF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0" y="914040"/>
            <a:ext cx="914400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Art. 22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L. n. 241/90: 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titolari del diritto di accesso sono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tutti i soggetti privati, compresi quelli portatori di interessi pubblici o diffusi, che abbiano un interesse diretto, concreto e attuale, corrispondente ad una situazione giuridicamente tutelata e collegata al documento al quale è chiesto l’accesso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UE DATI TESTUALI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SSISTENZA DI UNA POSIZIONE QUALIFICATA E DIFFERENZIAT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UTELA DI SITUAZIONI GIURIDICHE SOGGETTIVE RILEVANTI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6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B643-56DB-414D-B983-2F251399AF34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1295280" y="3808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titolarità del dirit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5EC4A-CD6C-43E0-82B9-9DA968F419E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52280" y="1071360"/>
            <a:ext cx="87631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3747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88c"/>
                </a:solidFill>
                <a:latin typeface="Tahoma"/>
              </a:rPr>
              <a:t>I N T E R E S S 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38840" indent="-3747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Diretto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: personale, ricollegabile alla sfera giuridica dell’istante (collegamento tra il soggetto e l’interesse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38840" indent="-3747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38840" indent="-3747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Concreto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: desumibile dalle circostanze che motivano la richiesta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38840" indent="-3747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38840" indent="-3747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Attual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: idoneità del documento richiesto a spiegare effetti diretti o indiretti nei confronti del richiedente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38840" indent="-3747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3391-3EED-491D-BB8F-034F7D309D29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"/>
          <p:cNvSpPr/>
          <p:nvPr/>
        </p:nvSpPr>
        <p:spPr>
          <a:xfrm>
            <a:off x="1066680" y="380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ahoma"/>
              </a:rPr>
              <a:t>...nozio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E35B6-ED5E-4513-BDCA-F986DA39F17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00040" y="285480"/>
            <a:ext cx="8229600" cy="60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388c"/>
                </a:solidFill>
                <a:latin typeface="Arial"/>
              </a:rPr>
              <a:t>SITUAZIONE   GIURIDICAMENTE RILEVANTE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teresse personale e concreto alla visione del documento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osizione soggettiva ammessa e tutelata dall’ordinamento anche indirettamente ed a prescindere dall’azionabilita’ in giudizio dell’interesse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Segnaposto numero diapositiva 5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A4E4-6101-48A6-839D-E0913D35443D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FE15-19C3-40E3-9E98-1E0F88AC55E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egnaposto numero diapositiva 3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8E54-178D-4F89-8DB7-9D9702030569}" type="slidenum">
              <a:rPr b="0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357120" y="3929040"/>
            <a:ext cx="4071960" cy="2286000"/>
          </a:xfrm>
          <a:prstGeom prst="ellipse">
            <a:avLst/>
          </a:prstGeom>
          <a:solidFill>
            <a:srgbClr val="ff56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UTELA  ANTICIP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2"/>
          <p:cNvSpPr/>
          <p:nvPr/>
        </p:nvSpPr>
        <p:spPr>
          <a:xfrm>
            <a:off x="214200" y="357120"/>
            <a:ext cx="84106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AUTONOMIA DEL DIRITTO DI ACCESSO RISPETTO ALLA LEGITTIMAZIONE ALL’IMPUGNAZIONE DEL PROVVEDIMENTO FIN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FUNZIONI E FINALITA’ DEL DIRITTO DI ACCES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Oval 4"/>
          <p:cNvSpPr/>
          <p:nvPr/>
        </p:nvSpPr>
        <p:spPr>
          <a:xfrm flipV="1">
            <a:off x="4714920" y="3928320"/>
            <a:ext cx="4214880" cy="2428920"/>
          </a:xfrm>
          <a:prstGeom prst="ellipse">
            <a:avLst/>
          </a:prstGeom>
          <a:solidFill>
            <a:srgbClr val="ff56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ARTECIPAZI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RASPARENZ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IMPARZIALITA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Freccia tridirezionale 33"/>
          <p:cNvSpPr/>
          <p:nvPr/>
        </p:nvSpPr>
        <p:spPr>
          <a:xfrm>
            <a:off x="3286080" y="3000240"/>
            <a:ext cx="2430360" cy="928800"/>
          </a:xfrm>
          <a:prstGeom prst="pie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imini marzo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C8E-20E5-4AD8-B9FD-69F98D81AD8D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lessia Auriemma</a:t>
            </a: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9T10:49:31Z</dcterms:created>
  <dc:creator>Sergio</dc:creator>
  <dc:description/>
  <dc:language>en-US</dc:language>
  <cp:lastModifiedBy>Sergio</cp:lastModifiedBy>
  <dcterms:modified xsi:type="dcterms:W3CDTF">2011-03-09T17:59:04Z</dcterms:modified>
  <cp:revision>156</cp:revision>
  <dc:subject/>
  <dc:title>Presentazione di PowerPoint</dc:title>
</cp:coreProperties>
</file>